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88B4-25B6-4C6E-BF31-4CE51B1F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BBB-9FFB-477A-8DA0-DFC14F98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D7F1EF-1106-4CA3-83DC-14AEE13B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050E5-F529-46E3-99A8-FF7CBF19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E3A85-B208-4A1B-A399-F710F064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15DB7-D7EC-429B-8AD2-9925D323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EB7F0-F6C5-4629-B468-0181AE54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D16DA-6819-42B5-BCF9-A33F671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24061-83D3-4882-B3A2-0D5AF4DA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8BC97-6DF6-40D3-A40D-D78B50E6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4C98D-98E6-4D7E-8D58-E3A9320C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93E3-F9D0-4E8E-9426-C017B917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513-D0A2-49E4-A3FB-73D01228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9E53-2074-4B70-84D7-585C4689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59AD-64AB-492F-80E1-4088D3A4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90D4-FCE6-41B2-9074-46134405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C59E-53FD-42AB-A83A-1E7DCBD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B1F9-9F94-4D8C-8D2D-2CB59489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4147-266B-4979-8433-2A3F508C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930D-F4C6-4FEE-AC0A-1E2AA2E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258-B1C0-4581-A6ED-F642A85B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873D-1AFC-4865-B970-8B9CE25A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B51F-7F07-45B4-9E26-73572940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A936-2B3F-435A-A685-BDF1C7A7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FFA8-2E35-4D8D-9EB7-B4717A5F6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ECD8-B60E-42CB-89C6-FC2F359E9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68BE8-F390-4EBE-9433-FA6D524C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8A16-C7B0-4149-B1F9-66ADEC35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48C3-DBC5-4895-A1C4-EF4EFE41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4E89D-01B4-43A4-BD6D-8EB07D7C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84F3A-3A16-42F7-B6C4-9414372E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DA05-A198-4038-8B25-E55E69EB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1DF6-D0B8-4713-85C6-DABC5A5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10A6-9100-46BA-987F-37DB0B0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CEE8D-F37C-4789-A5BC-AC55452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BAA7A-541F-4A75-9C57-9E21ED0C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F775D-955E-4DDE-8CB6-DF60CF21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7C09E-98F2-4461-883B-1CA98807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7A9B-AA7C-4531-BE6B-7B2E3472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09BFC-A708-4C35-823C-3DF188D8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3B329-0618-460F-BD01-99D84D31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C368-62FA-4FC8-9CBE-52B41795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55E2-56C4-4504-A2EC-63C2BB3D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2E7F4-6597-4525-9620-B18B944D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B05C-8F02-430A-BEB9-EF1C660E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1890D-45BC-43CC-B1AD-CD37223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10A08-7822-40A2-A471-6B97D61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414C-0C9A-4EF3-842B-A53136D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E47D2-66C3-4E21-AD4A-4C329C1D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F5D2-AAB6-42A0-85DE-E5CEF0A4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CD678-C173-42C6-9A22-87405ABD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61C6D-5C07-4246-A613-D058F8833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E632C-3BBE-45AB-9E8B-29B2A4C2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A7DA-ABE5-491D-B5F0-D6B48221F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5EBA8-6AFF-42A9-9FCA-35F7EF56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E8C63-7D06-4A4F-855C-70CC268B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C209C-214E-43A9-92F7-3D385564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D65C-BF1E-4EFD-8410-BAD3C8A0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6FF7-09D1-4224-8E24-64B0AD47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1088C-16DE-4C4C-92F9-A396BF82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431D0-9888-4F69-A0A4-DD31D95D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3AD95-63C5-4B15-A45D-0DB395A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5CE3-745E-412C-BF5A-E4D8D16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94DEC-75F4-41DC-AA59-26699775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52AD-7914-46A7-91EB-668EBDD1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62365-39EF-44F1-A3FD-C039C789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FC73F-F985-4407-ABD9-B4080045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CB703-4F65-4387-A2B9-E2FCC7AC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FC114-9215-43E5-BF2A-7782A0A8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9D8A8-75B4-4A0A-9807-6EC3DDA9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589C3-EF2F-4D29-BBF1-C323CBCC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4374C-7DE1-4EE7-87CE-7178D9EC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4943-3D8E-43DD-A9FC-6A9F0DF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9B3E-969B-47CA-B07A-BE7AD3ED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A612D-71BF-484F-B2F5-09C4AB60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1FCB-D04A-4394-AA0D-B1480091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5670D-872B-4031-931C-B144858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A5077-EB41-4359-AED0-20E55B03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CE585-A440-47D0-9974-3C9EE96D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9A3FD-C1D4-456D-A595-FACE42C1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A1599-9F4D-45E7-8514-F8B6A9F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BCE14-7900-4A28-8938-F2A24331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08C41-D500-43F3-A7A1-525B421C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0F563-2843-4A33-AF17-E9038A71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19F2B-8B31-42CF-9CA9-704D449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AFCF6-EFF7-4790-A19E-F2F52685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E714-7C4B-4DF5-9F13-FA4CE9A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2E97-A2DE-43D7-8A32-17D318C0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CCB50-7E09-417A-A195-7A187F4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93CA-CB75-4F96-9B42-4EC6398E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133C-14C9-4C1C-A182-CAE48CA2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B3DE0-7850-481B-AB59-6D44DBA6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EA525A-89B5-4EED-8E76-20EC99F0B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6B43A-71A5-4185-8CEF-BEE19651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20AE92-EC75-47A7-A450-7E61CA2D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20578-AC17-4A2A-B3FB-A20AE41F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8F3D8-2CC6-46E6-B508-BE096637F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3CC6-582D-4F44-92AB-89839A4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160E4-58C9-4FCB-B069-6CCBAE2F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67CF9-2D77-4722-B033-8D5C646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6F059-FDD9-48F7-B874-7653C0AF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073A2-79D0-4A35-A3BE-2D4E5700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F7F6A-7227-474A-B1EE-37DA137B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DB0D-9DBD-46CA-ACA2-1D5E904D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DE836-C527-42D7-A741-06457C5E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08C84-2BAE-44F0-911E-9482DB6D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32A8D-9B73-4858-9BF6-845AB5C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EFF70-37A6-4F34-B6D2-34D15B95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583C-30BA-4EDA-8750-761EF862DC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7"/>
          <p:cNvSpPr/>
          <p:nvPr/>
        </p:nvSpPr>
        <p:spPr>
          <a:xfrm rot="5400000">
            <a:off x="4494240" y="-838080"/>
            <a:ext cx="3200400" cy="12191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2191760"/>
              <a:gd name="textAreaBottom" fmla="*/ 12192120 h 1219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lnTo>
                  <a:pt x="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43"/>
          <p:cNvSpPr/>
          <p:nvPr/>
        </p:nvSpPr>
        <p:spPr>
          <a:xfrm>
            <a:off x="0" y="0"/>
            <a:ext cx="12192120" cy="4381560"/>
          </a:xfrm>
          <a:custGeom>
            <a:avLst/>
            <a:gdLst/>
            <a:ahLst/>
            <a:rect l="l" t="t" r="r" b="b"/>
            <a:pathLst>
              <a:path w="12192000" h="5044965">
                <a:moveTo>
                  <a:pt x="0" y="0"/>
                </a:moveTo>
                <a:lnTo>
                  <a:pt x="12192000" y="0"/>
                </a:lnTo>
                <a:lnTo>
                  <a:pt x="12192000" y="4210775"/>
                </a:lnTo>
                <a:lnTo>
                  <a:pt x="6132786" y="5044965"/>
                </a:lnTo>
                <a:lnTo>
                  <a:pt x="0" y="4210775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5"/>
          <p:cNvSpPr/>
          <p:nvPr/>
        </p:nvSpPr>
        <p:spPr>
          <a:xfrm>
            <a:off x="6095880" y="0"/>
            <a:ext cx="6096240" cy="4572000"/>
          </a:xfrm>
          <a:custGeom>
            <a:avLst/>
            <a:gdLst/>
            <a:ahLst/>
            <a:rect l="l" t="t" r="r" b="b"/>
            <a:pathLst>
              <a:path w="6096000" h="4572001">
                <a:moveTo>
                  <a:pt x="0" y="0"/>
                </a:moveTo>
                <a:lnTo>
                  <a:pt x="6096000" y="0"/>
                </a:lnTo>
                <a:lnTo>
                  <a:pt x="6096000" y="3846788"/>
                </a:lnTo>
                <a:lnTo>
                  <a:pt x="0" y="457200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组合 10" descr=""/>
          <p:cNvPicPr/>
          <p:nvPr/>
        </p:nvPicPr>
        <p:blipFill>
          <a:blip r:embed="rId4"/>
          <a:stretch/>
        </p:blipFill>
        <p:spPr>
          <a:xfrm>
            <a:off x="1847880" y="4797360"/>
            <a:ext cx="663480" cy="658800"/>
          </a:xfrm>
          <a:prstGeom prst="rect">
            <a:avLst/>
          </a:prstGeom>
          <a:ln w="0">
            <a:noFill/>
          </a:ln>
        </p:spPr>
      </p:pic>
      <p:pic>
        <p:nvPicPr>
          <p:cNvPr id="47" name="组合 17" descr=""/>
          <p:cNvPicPr/>
          <p:nvPr/>
        </p:nvPicPr>
        <p:blipFill>
          <a:blip r:embed="rId5"/>
          <a:stretch/>
        </p:blipFill>
        <p:spPr>
          <a:xfrm>
            <a:off x="8180280" y="4780080"/>
            <a:ext cx="658800" cy="657000"/>
          </a:xfrm>
          <a:prstGeom prst="rect">
            <a:avLst/>
          </a:prstGeom>
          <a:ln w="0">
            <a:noFill/>
          </a:ln>
        </p:spPr>
      </p:pic>
      <p:pic>
        <p:nvPicPr>
          <p:cNvPr id="48" name="组合 22" descr=""/>
          <p:cNvPicPr/>
          <p:nvPr/>
        </p:nvPicPr>
        <p:blipFill>
          <a:blip r:embed="rId6"/>
          <a:stretch/>
        </p:blipFill>
        <p:spPr>
          <a:xfrm>
            <a:off x="4645080" y="4797360"/>
            <a:ext cx="658800" cy="665280"/>
          </a:xfrm>
          <a:prstGeom prst="rect">
            <a:avLst/>
          </a:prstGeom>
          <a:ln w="0">
            <a:noFill/>
          </a:ln>
        </p:spPr>
      </p:pic>
      <p:sp>
        <p:nvSpPr>
          <p:cNvPr id="49" name="燕尾形 30"/>
          <p:cNvSpPr/>
          <p:nvPr/>
        </p:nvSpPr>
        <p:spPr>
          <a:xfrm rot="5400000">
            <a:off x="5638320" y="-1981080"/>
            <a:ext cx="914400" cy="121921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2120"/>
              <a:gd name="textAreaBottom" fmla="*/ 12192480 h 121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69" y="0"/>
                </a:lnTo>
                <a:lnTo>
                  <a:pt x="21600" y="10800"/>
                </a:lnTo>
                <a:lnTo>
                  <a:pt x="4969" y="21600"/>
                </a:lnTo>
                <a:lnTo>
                  <a:pt x="0" y="21600"/>
                </a:lnTo>
                <a:lnTo>
                  <a:pt x="16631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366-051D-41BA-9668-F418CD43FD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93A3-F94A-47CE-A2A4-DAD7307899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1"/>
          <p:cNvGrpSpPr/>
          <p:nvPr/>
        </p:nvGrpSpPr>
        <p:grpSpPr>
          <a:xfrm>
            <a:off x="263520" y="2465280"/>
            <a:ext cx="914400" cy="1927440"/>
            <a:chOff x="263520" y="2465280"/>
            <a:chExt cx="914400" cy="1927440"/>
          </a:xfrm>
        </p:grpSpPr>
        <p:sp>
          <p:nvSpPr>
            <p:cNvPr id="139" name="矩形 8"/>
            <p:cNvSpPr/>
            <p:nvPr/>
          </p:nvSpPr>
          <p:spPr>
            <a:xfrm>
              <a:off x="263520" y="2465280"/>
              <a:ext cx="1252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9"/>
            <p:cNvSpPr/>
            <p:nvPr/>
          </p:nvSpPr>
          <p:spPr>
            <a:xfrm>
              <a:off x="444240" y="2465280"/>
              <a:ext cx="733680" cy="1927440"/>
            </a:xfrm>
            <a:prstGeom prst="rect">
              <a:avLst/>
            </a:prstGeom>
            <a:solidFill>
              <a:srgbClr val="3332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组合 13"/>
            <p:cNvGrpSpPr/>
            <p:nvPr/>
          </p:nvGrpSpPr>
          <p:grpSpPr>
            <a:xfrm>
              <a:off x="557640" y="2664000"/>
              <a:ext cx="482760" cy="654840"/>
              <a:chOff x="557640" y="2664000"/>
              <a:chExt cx="482760" cy="654840"/>
            </a:xfrm>
          </p:grpSpPr>
          <p:sp>
            <p:nvSpPr>
              <p:cNvPr id="142" name="KSO_Shape"/>
              <p:cNvSpPr/>
              <p:nvPr/>
            </p:nvSpPr>
            <p:spPr>
              <a:xfrm>
                <a:off x="633600" y="2664000"/>
                <a:ext cx="374760" cy="572400"/>
              </a:xfrm>
              <a:custGeom>
                <a:avLst/>
                <a:gdLst/>
                <a:ahLst/>
                <a:rect l="l" t="t" r="r" b="b"/>
                <a:pathLst>
                  <a:path w="791665" h="1206638">
                    <a:moveTo>
                      <a:pt x="395833" y="194422"/>
                    </a:moveTo>
                    <a:cubicBezTo>
                      <a:pt x="284597" y="194422"/>
                      <a:pt x="194422" y="284596"/>
                      <a:pt x="194422" y="395833"/>
                    </a:cubicBezTo>
                    <a:cubicBezTo>
                      <a:pt x="194422" y="507069"/>
                      <a:pt x="284597" y="597244"/>
                      <a:pt x="395833" y="597244"/>
                    </a:cubicBezTo>
                    <a:cubicBezTo>
                      <a:pt x="507070" y="597244"/>
                      <a:pt x="597244" y="507069"/>
                      <a:pt x="597244" y="395833"/>
                    </a:cubicBezTo>
                    <a:cubicBezTo>
                      <a:pt x="597244" y="284596"/>
                      <a:pt x="507070" y="194422"/>
                      <a:pt x="395833" y="194422"/>
                    </a:cubicBezTo>
                    <a:close/>
                    <a:moveTo>
                      <a:pt x="395833" y="0"/>
                    </a:moveTo>
                    <a:cubicBezTo>
                      <a:pt x="497135" y="-1"/>
                      <a:pt x="598438" y="38646"/>
                      <a:pt x="675729" y="115937"/>
                    </a:cubicBezTo>
                    <a:cubicBezTo>
                      <a:pt x="830312" y="270519"/>
                      <a:pt x="830312" y="521146"/>
                      <a:pt x="675729" y="675729"/>
                    </a:cubicBezTo>
                    <a:lnTo>
                      <a:pt x="374888" y="1206638"/>
                    </a:lnTo>
                    <a:cubicBezTo>
                      <a:pt x="281589" y="1113339"/>
                      <a:pt x="209236" y="769028"/>
                      <a:pt x="115937" y="675729"/>
                    </a:cubicBezTo>
                    <a:cubicBezTo>
                      <a:pt x="-38646" y="521146"/>
                      <a:pt x="-38646" y="270519"/>
                      <a:pt x="115937" y="115937"/>
                    </a:cubicBezTo>
                    <a:cubicBezTo>
                      <a:pt x="193228" y="38646"/>
                      <a:pt x="294531" y="-1"/>
                      <a:pt x="39583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12"/>
              <p:cNvSpPr/>
              <p:nvPr/>
            </p:nvSpPr>
            <p:spPr>
              <a:xfrm>
                <a:off x="557640" y="3236400"/>
                <a:ext cx="482760" cy="82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6272-983D-40DD-9970-1B44C394CE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322-E30C-4CDD-97CB-A5B5A54AD85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121856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燕尾形 8"/>
          <p:cNvSpPr/>
          <p:nvPr/>
        </p:nvSpPr>
        <p:spPr>
          <a:xfrm>
            <a:off x="1936800" y="0"/>
            <a:ext cx="9402840" cy="6858000"/>
          </a:xfrm>
          <a:custGeom>
            <a:avLst/>
            <a:gdLst>
              <a:gd name="textAreaLeft" fmla="*/ 0 w 9402840"/>
              <a:gd name="textAreaRight" fmla="*/ 9403200 w 940284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130" y="0"/>
                </a:lnTo>
                <a:lnTo>
                  <a:pt x="21600" y="10800"/>
                </a:lnTo>
                <a:lnTo>
                  <a:pt x="14130" y="21600"/>
                </a:lnTo>
                <a:lnTo>
                  <a:pt x="0" y="21600"/>
                </a:lnTo>
                <a:lnTo>
                  <a:pt x="7470" y="10800"/>
                </a:lnTo>
                <a:close/>
              </a:path>
            </a:pathLst>
          </a:custGeom>
          <a:solidFill>
            <a:srgbClr val="99cc00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燕尾形 9"/>
          <p:cNvSpPr/>
          <p:nvPr/>
        </p:nvSpPr>
        <p:spPr>
          <a:xfrm>
            <a:off x="824400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燕尾形 10"/>
          <p:cNvSpPr/>
          <p:nvPr/>
        </p:nvSpPr>
        <p:spPr>
          <a:xfrm>
            <a:off x="1150920" y="0"/>
            <a:ext cx="3898800" cy="6858000"/>
          </a:xfrm>
          <a:custGeom>
            <a:avLst/>
            <a:gdLst>
              <a:gd name="textAreaLeft" fmla="*/ 0 w 3898800"/>
              <a:gd name="textAreaRight" fmla="*/ 3899160 w 389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643" y="0"/>
                </a:lnTo>
                <a:lnTo>
                  <a:pt x="21600" y="10800"/>
                </a:lnTo>
                <a:lnTo>
                  <a:pt x="3643" y="21600"/>
                </a:lnTo>
                <a:lnTo>
                  <a:pt x="0" y="21600"/>
                </a:lnTo>
                <a:lnTo>
                  <a:pt x="17957" y="10800"/>
                </a:lnTo>
                <a:close/>
              </a:path>
            </a:pathLst>
          </a:cu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C1E8-9D13-4A36-9316-AE1E70E8F5E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75F2-524E-44EB-AD26-8E61280758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828F-63B1-4F6A-BFC9-42A1238EDF0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7"/>
          <p:cNvSpPr/>
          <p:nvPr/>
        </p:nvSpPr>
        <p:spPr>
          <a:xfrm>
            <a:off x="0" y="6665760"/>
            <a:ext cx="933300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10672920" y="6665760"/>
            <a:ext cx="1512720" cy="203400"/>
          </a:xfrm>
          <a:prstGeom prst="rect">
            <a:avLst/>
          </a:prstGeom>
          <a:solidFill>
            <a:srgbClr val="333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9"/>
          <p:cNvSpPr/>
          <p:nvPr/>
        </p:nvSpPr>
        <p:spPr>
          <a:xfrm>
            <a:off x="9412200" y="6665760"/>
            <a:ext cx="1187640" cy="203400"/>
          </a:xfrm>
          <a:prstGeom prst="rect">
            <a:avLst/>
          </a:prstGeom>
          <a:solidFill>
            <a:srgbClr val="678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图片 14" descr=""/>
          <p:cNvPicPr/>
          <p:nvPr/>
        </p:nvPicPr>
        <p:blipFill>
          <a:blip r:embed="rId3"/>
          <a:stretch/>
        </p:blipFill>
        <p:spPr>
          <a:xfrm>
            <a:off x="217440" y="187200"/>
            <a:ext cx="863640" cy="741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934FE-7502-4538-B4A6-62DAD7CF6D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WordArt 4"/>
          <p:cNvSpPr txBox="1"/>
          <p:nvPr/>
        </p:nvSpPr>
        <p:spPr>
          <a:xfrm>
            <a:off x="3359160" y="1693800"/>
            <a:ext cx="5473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快乐读书吧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61880" y="225360"/>
            <a:ext cx="70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90920" y="3328920"/>
            <a:ext cx="70117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李萍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jr06"/>
          <p:cNvPicPr/>
          <p:nvPr/>
        </p:nvPicPr>
        <p:blipFill>
          <a:blip r:embed="rId1"/>
          <a:stretch/>
        </p:blipFill>
        <p:spPr>
          <a:xfrm>
            <a:off x="152388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Documents and Settings\Administrator\桌面\09.jpg"/>
          <p:cNvPicPr/>
          <p:nvPr/>
        </p:nvPicPr>
        <p:blipFill>
          <a:blip r:embed="rId2"/>
          <a:stretch/>
        </p:blipFill>
        <p:spPr>
          <a:xfrm>
            <a:off x="1776240" y="4578480"/>
            <a:ext cx="8568000" cy="19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AutoShape 18"/>
          <p:cNvSpPr/>
          <p:nvPr/>
        </p:nvSpPr>
        <p:spPr>
          <a:xfrm>
            <a:off x="534960" y="219240"/>
            <a:ext cx="3745080" cy="2349360"/>
          </a:xfrm>
          <a:prstGeom prst="cloudCallout">
            <a:avLst>
              <a:gd name="adj1" fmla="val 86675"/>
              <a:gd name="adj2" fmla="val 53254"/>
            </a:avLst>
          </a:prstGeom>
          <a:solidFill>
            <a:srgbClr val="ccffcc">
              <a:alpha val="30000"/>
            </a:srgbClr>
          </a:solidFill>
          <a:ln cap="rnd" w="936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2766960" y="3025800"/>
            <a:ext cx="7456680" cy="3340080"/>
          </a:xfrm>
          <a:prstGeom prst="rect">
            <a:avLst/>
          </a:prstGeom>
          <a:ln w="47520">
            <a:solidFill>
              <a:srgbClr val="00b050"/>
            </a:solidFill>
            <a:miter/>
          </a:ln>
        </p:spPr>
      </p:pic>
      <p:sp>
        <p:nvSpPr>
          <p:cNvPr id="419" name="TextBox 1"/>
          <p:cNvSpPr/>
          <p:nvPr/>
        </p:nvSpPr>
        <p:spPr>
          <a:xfrm>
            <a:off x="946080" y="1074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他们分别叫什么名字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2"/>
          <a:stretch/>
        </p:blipFill>
        <p:spPr>
          <a:xfrm>
            <a:off x="2895480" y="3025800"/>
            <a:ext cx="1884600" cy="146988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41"/>
          <p:cNvGrpSpPr/>
          <p:nvPr/>
        </p:nvGrpSpPr>
        <p:grpSpPr>
          <a:xfrm>
            <a:off x="8710560" y="3301920"/>
            <a:ext cx="1513080" cy="549360"/>
            <a:chOff x="8710560" y="3301920"/>
            <a:chExt cx="1513080" cy="549360"/>
          </a:xfrm>
        </p:grpSpPr>
        <p:sp>
          <p:nvSpPr>
            <p:cNvPr id="422" name="AutoShape 42"/>
            <p:cNvSpPr/>
            <p:nvPr/>
          </p:nvSpPr>
          <p:spPr>
            <a:xfrm>
              <a:off x="8710560" y="3301920"/>
              <a:ext cx="1513080" cy="5493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43"/>
            <p:cNvSpPr/>
            <p:nvPr/>
          </p:nvSpPr>
          <p:spPr>
            <a:xfrm>
              <a:off x="8750880" y="3316680"/>
              <a:ext cx="14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高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8"/>
          <p:cNvGrpSpPr/>
          <p:nvPr/>
        </p:nvGrpSpPr>
        <p:grpSpPr>
          <a:xfrm>
            <a:off x="1171440" y="371520"/>
            <a:ext cx="5472000" cy="647640"/>
            <a:chOff x="1171440" y="371520"/>
            <a:chExt cx="5472000" cy="647640"/>
          </a:xfrm>
        </p:grpSpPr>
        <p:sp>
          <p:nvSpPr>
            <p:cNvPr id="425" name="AutoShape 6"/>
            <p:cNvSpPr/>
            <p:nvPr/>
          </p:nvSpPr>
          <p:spPr>
            <a:xfrm>
              <a:off x="1171440" y="371520"/>
              <a:ext cx="547200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7"/>
            <p:cNvSpPr/>
            <p:nvPr/>
          </p:nvSpPr>
          <p:spPr>
            <a:xfrm>
              <a:off x="1315800" y="371520"/>
              <a:ext cx="532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听故事，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矩形 11"/>
          <p:cNvSpPr/>
          <p:nvPr/>
        </p:nvSpPr>
        <p:spPr>
          <a:xfrm>
            <a:off x="679320" y="1658880"/>
            <a:ext cx="358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没头脑” 赶紧找回了书包，可是又发生了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7335720" y="150984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不高兴”站在墙头耍杂技 ，老师赶紧喊他下来，他会怎么回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7021440" y="1219320"/>
            <a:ext cx="4260960" cy="209052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0"/>
          <p:cNvSpPr/>
          <p:nvPr/>
        </p:nvSpPr>
        <p:spPr>
          <a:xfrm>
            <a:off x="434880" y="1523880"/>
            <a:ext cx="4075200" cy="16430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2857680" y="4033800"/>
            <a:ext cx="5614920" cy="248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16"/>
          <p:cNvGrpSpPr/>
          <p:nvPr/>
        </p:nvGrpSpPr>
        <p:grpSpPr>
          <a:xfrm>
            <a:off x="396720" y="925560"/>
            <a:ext cx="4247640" cy="1252080"/>
            <a:chOff x="396720" y="925560"/>
            <a:chExt cx="4247640" cy="1252080"/>
          </a:xfrm>
        </p:grpSpPr>
        <p:sp>
          <p:nvSpPr>
            <p:cNvPr id="433" name="AutoShape 12"/>
            <p:cNvSpPr/>
            <p:nvPr/>
          </p:nvSpPr>
          <p:spPr>
            <a:xfrm>
              <a:off x="396720" y="925560"/>
              <a:ext cx="4247640" cy="125208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611640" y="1071720"/>
              <a:ext cx="40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</a:rPr>
                <a:t>为什么他们的名字叫“没头脑”和“不高兴”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5" name="Picture 1" descr="C:\Documents and Settings\Administrator\Application Data\Tencent\Users\2399319046\QQ\WinTemp\RichOle\F5H(@N0~VBG1V~LGIF]4W[K.png"/>
          <p:cNvPicPr/>
          <p:nvPr/>
        </p:nvPicPr>
        <p:blipFill>
          <a:blip r:embed="rId1"/>
          <a:stretch/>
        </p:blipFill>
        <p:spPr>
          <a:xfrm>
            <a:off x="5165640" y="1582560"/>
            <a:ext cx="6121440" cy="4686480"/>
          </a:xfrm>
          <a:prstGeom prst="rect">
            <a:avLst/>
          </a:prstGeom>
          <a:ln w="66600">
            <a:solidFill>
              <a:srgbClr val="41719c"/>
            </a:solidFill>
            <a:miter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8"/>
          <p:cNvGrpSpPr/>
          <p:nvPr/>
        </p:nvGrpSpPr>
        <p:grpSpPr>
          <a:xfrm>
            <a:off x="1235160" y="284040"/>
            <a:ext cx="5679720" cy="647640"/>
            <a:chOff x="1235160" y="284040"/>
            <a:chExt cx="5679720" cy="647640"/>
          </a:xfrm>
        </p:grpSpPr>
        <p:sp>
          <p:nvSpPr>
            <p:cNvPr id="437" name="AutoShape 6"/>
            <p:cNvSpPr/>
            <p:nvPr/>
          </p:nvSpPr>
          <p:spPr>
            <a:xfrm>
              <a:off x="1236960" y="284040"/>
              <a:ext cx="56779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7"/>
            <p:cNvSpPr/>
            <p:nvPr/>
          </p:nvSpPr>
          <p:spPr>
            <a:xfrm>
              <a:off x="1235160" y="284040"/>
              <a:ext cx="56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读名字，再猜一猜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8"/>
          <p:cNvSpPr/>
          <p:nvPr/>
        </p:nvSpPr>
        <p:spPr>
          <a:xfrm>
            <a:off x="5362560" y="1441440"/>
            <a:ext cx="33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它叫什么名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1"/>
          <p:cNvSpPr/>
          <p:nvPr/>
        </p:nvSpPr>
        <p:spPr>
          <a:xfrm>
            <a:off x="5256360" y="1162080"/>
            <a:ext cx="3644640" cy="1247760"/>
          </a:xfrm>
          <a:prstGeom prst="wedgeRoundRectCallout">
            <a:avLst>
              <a:gd name="adj1" fmla="val -46962"/>
              <a:gd name="adj2" fmla="val 124662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图片 6" descr=""/>
          <p:cNvPicPr/>
          <p:nvPr/>
        </p:nvPicPr>
        <p:blipFill>
          <a:blip r:embed="rId1"/>
          <a:stretch/>
        </p:blipFill>
        <p:spPr>
          <a:xfrm>
            <a:off x="1407960" y="1693800"/>
            <a:ext cx="3549960" cy="4248360"/>
          </a:xfrm>
          <a:prstGeom prst="rect">
            <a:avLst/>
          </a:prstGeom>
          <a:ln w="0">
            <a:noFill/>
          </a:ln>
        </p:spPr>
      </p:pic>
      <p:grpSp>
        <p:nvGrpSpPr>
          <p:cNvPr id="442" name="组合 8"/>
          <p:cNvGrpSpPr/>
          <p:nvPr/>
        </p:nvGrpSpPr>
        <p:grpSpPr>
          <a:xfrm>
            <a:off x="7594560" y="3263760"/>
            <a:ext cx="2664000" cy="1393920"/>
            <a:chOff x="7594560" y="3263760"/>
            <a:chExt cx="2664000" cy="1393920"/>
          </a:xfrm>
        </p:grpSpPr>
        <p:sp>
          <p:nvSpPr>
            <p:cNvPr id="443" name="AutoShape 529"/>
            <p:cNvSpPr/>
            <p:nvPr/>
          </p:nvSpPr>
          <p:spPr>
            <a:xfrm>
              <a:off x="7594560" y="3263760"/>
              <a:ext cx="2664000" cy="1393920"/>
            </a:xfrm>
            <a:prstGeom prst="roundRect">
              <a:avLst>
                <a:gd name="adj" fmla="val 1176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图片 7" descr=""/>
            <p:cNvPicPr/>
            <p:nvPr/>
          </p:nvPicPr>
          <p:blipFill>
            <a:blip r:embed="rId2"/>
            <a:stretch/>
          </p:blipFill>
          <p:spPr>
            <a:xfrm>
              <a:off x="7778880" y="3577320"/>
              <a:ext cx="2295360" cy="876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图片 3" descr=""/>
          <p:cNvPicPr/>
          <p:nvPr/>
        </p:nvPicPr>
        <p:blipFill>
          <a:blip r:embed="rId1"/>
          <a:stretch/>
        </p:blipFill>
        <p:spPr>
          <a:xfrm>
            <a:off x="6885000" y="463680"/>
            <a:ext cx="3986280" cy="4195800"/>
          </a:xfrm>
          <a:prstGeom prst="rect">
            <a:avLst/>
          </a:prstGeom>
          <a:ln w="0">
            <a:noFill/>
          </a:ln>
        </p:spPr>
      </p:pic>
      <p:grpSp>
        <p:nvGrpSpPr>
          <p:cNvPr id="446" name="组合 4"/>
          <p:cNvGrpSpPr/>
          <p:nvPr/>
        </p:nvGrpSpPr>
        <p:grpSpPr>
          <a:xfrm>
            <a:off x="1058760" y="4870440"/>
            <a:ext cx="4376880" cy="992160"/>
            <a:chOff x="1058760" y="4870440"/>
            <a:chExt cx="4376880" cy="992160"/>
          </a:xfrm>
        </p:grpSpPr>
        <p:sp>
          <p:nvSpPr>
            <p:cNvPr id="447" name="AutoShape 42"/>
            <p:cNvSpPr/>
            <p:nvPr/>
          </p:nvSpPr>
          <p:spPr>
            <a:xfrm>
              <a:off x="1058760" y="4870440"/>
              <a:ext cx="3284280" cy="992160"/>
            </a:xfrm>
            <a:prstGeom prst="roundRect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3"/>
            <p:cNvSpPr/>
            <p:nvPr/>
          </p:nvSpPr>
          <p:spPr>
            <a:xfrm>
              <a:off x="1170720" y="5046120"/>
              <a:ext cx="4264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长鼻子匹诺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图片 5" descr=""/>
          <p:cNvPicPr/>
          <p:nvPr/>
        </p:nvPicPr>
        <p:blipFill>
          <a:blip r:embed="rId2"/>
          <a:stretch/>
        </p:blipFill>
        <p:spPr>
          <a:xfrm>
            <a:off x="351000" y="-9360"/>
            <a:ext cx="5708520" cy="45748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42"/>
          <p:cNvSpPr/>
          <p:nvPr/>
        </p:nvSpPr>
        <p:spPr>
          <a:xfrm>
            <a:off x="7311960" y="4870440"/>
            <a:ext cx="3132360" cy="930240"/>
          </a:xfrm>
          <a:prstGeom prst="roundRect">
            <a:avLst>
              <a:gd name="adj" fmla="val 50000"/>
            </a:avLst>
          </a:prstGeom>
          <a:solidFill>
            <a:srgbClr val="ffcc00"/>
          </a:solidFill>
          <a:ln w="0">
            <a:noFill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3"/>
          <p:cNvSpPr/>
          <p:nvPr/>
        </p:nvSpPr>
        <p:spPr>
          <a:xfrm>
            <a:off x="6988320" y="50450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邋遢大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8"/>
          <p:cNvGrpSpPr/>
          <p:nvPr/>
        </p:nvGrpSpPr>
        <p:grpSpPr>
          <a:xfrm>
            <a:off x="1101600" y="252360"/>
            <a:ext cx="5860800" cy="650520"/>
            <a:chOff x="1101600" y="252360"/>
            <a:chExt cx="5860800" cy="650520"/>
          </a:xfrm>
        </p:grpSpPr>
        <p:sp>
          <p:nvSpPr>
            <p:cNvPr id="453" name="AutoShape 6"/>
            <p:cNvSpPr/>
            <p:nvPr/>
          </p:nvSpPr>
          <p:spPr>
            <a:xfrm>
              <a:off x="1101600" y="252360"/>
              <a:ext cx="569052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7"/>
            <p:cNvSpPr/>
            <p:nvPr/>
          </p:nvSpPr>
          <p:spPr>
            <a:xfrm>
              <a:off x="1422000" y="260280"/>
              <a:ext cx="554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比一比，学分享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16"/>
          <p:cNvGrpSpPr/>
          <p:nvPr/>
        </p:nvGrpSpPr>
        <p:grpSpPr>
          <a:xfrm>
            <a:off x="291960" y="1998720"/>
            <a:ext cx="4953960" cy="1890000"/>
            <a:chOff x="291960" y="1998720"/>
            <a:chExt cx="4953960" cy="1890000"/>
          </a:xfrm>
        </p:grpSpPr>
        <p:sp>
          <p:nvSpPr>
            <p:cNvPr id="456" name="AutoShape 12"/>
            <p:cNvSpPr/>
            <p:nvPr/>
          </p:nvSpPr>
          <p:spPr>
            <a:xfrm>
              <a:off x="622800" y="1998720"/>
              <a:ext cx="4291200" cy="1890000"/>
            </a:xfrm>
            <a:prstGeom prst="wedgeRoundRectCallout">
              <a:avLst>
                <a:gd name="adj1" fmla="val 39513"/>
                <a:gd name="adj2" fmla="val 77916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15"/>
            <p:cNvSpPr/>
            <p:nvPr/>
          </p:nvSpPr>
          <p:spPr>
            <a:xfrm>
              <a:off x="291960" y="2451600"/>
              <a:ext cx="495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干净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8"/>
          <p:cNvGrpSpPr/>
          <p:nvPr/>
        </p:nvGrpSpPr>
        <p:grpSpPr>
          <a:xfrm>
            <a:off x="7269120" y="2111400"/>
            <a:ext cx="4579920" cy="2482920"/>
            <a:chOff x="7269120" y="2111400"/>
            <a:chExt cx="4579920" cy="2482920"/>
          </a:xfrm>
        </p:grpSpPr>
        <p:pic>
          <p:nvPicPr>
            <p:cNvPr id="459" name="Picture 2" descr=""/>
            <p:cNvPicPr/>
            <p:nvPr/>
          </p:nvPicPr>
          <p:blipFill>
            <a:blip r:embed="rId1"/>
            <a:stretch/>
          </p:blipFill>
          <p:spPr>
            <a:xfrm>
              <a:off x="7269120" y="2111400"/>
              <a:ext cx="457992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Box 7"/>
            <p:cNvSpPr/>
            <p:nvPr/>
          </p:nvSpPr>
          <p:spPr>
            <a:xfrm>
              <a:off x="7269120" y="2465280"/>
              <a:ext cx="4579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</a:rPr>
                <a:t>谁的童话书最有趣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1" name="Picture 558" descr="그림1"/>
          <p:cNvPicPr/>
          <p:nvPr/>
        </p:nvPicPr>
        <p:blipFill>
          <a:blip r:embed="rId2"/>
          <a:stretch/>
        </p:blipFill>
        <p:spPr>
          <a:xfrm>
            <a:off x="4745160" y="4319640"/>
            <a:ext cx="1989000" cy="1989000"/>
          </a:xfrm>
          <a:prstGeom prst="rect">
            <a:avLst/>
          </a:prstGeom>
          <a:ln w="0">
            <a:noFill/>
          </a:ln>
        </p:spPr>
      </p:pic>
      <p:sp>
        <p:nvSpPr>
          <p:cNvPr id="462" name="Oval 563"/>
          <p:cNvSpPr/>
          <p:nvPr/>
        </p:nvSpPr>
        <p:spPr>
          <a:xfrm>
            <a:off x="4618080" y="4287960"/>
            <a:ext cx="2244600" cy="17794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560"/>
          <p:cNvSpPr txBox="1"/>
          <p:nvPr/>
        </p:nvSpPr>
        <p:spPr>
          <a:xfrm>
            <a:off x="5246640" y="4916520"/>
            <a:ext cx="1042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比一比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图片 3" descr=""/>
          <p:cNvPicPr/>
          <p:nvPr/>
        </p:nvPicPr>
        <p:blipFill>
          <a:blip r:embed="rId1"/>
          <a:stretch/>
        </p:blipFill>
        <p:spPr>
          <a:xfrm>
            <a:off x="2347920" y="3997440"/>
            <a:ext cx="7496280" cy="2468520"/>
          </a:xfrm>
          <a:prstGeom prst="rect">
            <a:avLst/>
          </a:prstGeom>
          <a:ln w="0">
            <a:noFill/>
          </a:ln>
        </p:spPr>
      </p:pic>
      <p:grpSp>
        <p:nvGrpSpPr>
          <p:cNvPr id="465" name="Group 16"/>
          <p:cNvGrpSpPr/>
          <p:nvPr/>
        </p:nvGrpSpPr>
        <p:grpSpPr>
          <a:xfrm>
            <a:off x="577800" y="544680"/>
            <a:ext cx="4425120" cy="1762920"/>
            <a:chOff x="577800" y="544680"/>
            <a:chExt cx="4425120" cy="1762920"/>
          </a:xfrm>
        </p:grpSpPr>
        <p:sp>
          <p:nvSpPr>
            <p:cNvPr id="466" name="AutoShape 12"/>
            <p:cNvSpPr/>
            <p:nvPr/>
          </p:nvSpPr>
          <p:spPr>
            <a:xfrm>
              <a:off x="577800" y="544680"/>
              <a:ext cx="4264200" cy="1762920"/>
            </a:xfrm>
            <a:prstGeom prst="wedgeRoundRectCallout">
              <a:avLst>
                <a:gd name="adj1" fmla="val 48638"/>
                <a:gd name="adj2" fmla="val 89782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15"/>
            <p:cNvSpPr/>
            <p:nvPr/>
          </p:nvSpPr>
          <p:spPr>
            <a:xfrm>
              <a:off x="577800" y="878400"/>
              <a:ext cx="442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先看看封面，找找书名和作者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组合 8"/>
          <p:cNvGrpSpPr/>
          <p:nvPr/>
        </p:nvGrpSpPr>
        <p:grpSpPr>
          <a:xfrm>
            <a:off x="7542360" y="630360"/>
            <a:ext cx="4008240" cy="2604960"/>
            <a:chOff x="7542360" y="630360"/>
            <a:chExt cx="4008240" cy="2604960"/>
          </a:xfrm>
        </p:grpSpPr>
        <p:pic>
          <p:nvPicPr>
            <p:cNvPr id="469" name="Picture 2" descr=""/>
            <p:cNvPicPr/>
            <p:nvPr/>
          </p:nvPicPr>
          <p:blipFill>
            <a:blip r:embed="rId2"/>
            <a:stretch/>
          </p:blipFill>
          <p:spPr>
            <a:xfrm>
              <a:off x="7542360" y="630360"/>
              <a:ext cx="4007880" cy="26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TextBox 7"/>
            <p:cNvSpPr/>
            <p:nvPr/>
          </p:nvSpPr>
          <p:spPr>
            <a:xfrm>
              <a:off x="7624800" y="909720"/>
              <a:ext cx="39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</a:rPr>
                <a:t>喜欢这本书吗？为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Oval 563"/>
          <p:cNvSpPr/>
          <p:nvPr/>
        </p:nvSpPr>
        <p:spPr>
          <a:xfrm>
            <a:off x="5005440" y="2089080"/>
            <a:ext cx="1708200" cy="1766880"/>
          </a:xfrm>
          <a:prstGeom prst="ellipse">
            <a:avLst/>
          </a:prstGeom>
          <a:gradFill rotWithShape="0">
            <a:gsLst>
              <a:gs pos="0">
                <a:srgbClr val="ffe715"/>
              </a:gs>
              <a:gs pos="100000">
                <a:srgbClr val="d2be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WordArt 560"/>
          <p:cNvSpPr txBox="1"/>
          <p:nvPr/>
        </p:nvSpPr>
        <p:spPr>
          <a:xfrm>
            <a:off x="5337000" y="2711520"/>
            <a:ext cx="1043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1" strike="noStrike">
                <a:ln w="0">
                  <a:noFill/>
                </a:ln>
                <a:solidFill>
                  <a:srgbClr val="ff0000"/>
                </a:solidFill>
                <a:latin typeface="楷体_GB2312"/>
              </a:rPr>
              <a:t>学分享</a:t>
            </a:r>
            <a:endParaRPr b="1" lang="en-US" sz="1400" spc="1" strike="noStrike">
              <a:ln w="0">
                <a:noFill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28677"/>
          <p:cNvSpPr/>
          <p:nvPr/>
        </p:nvSpPr>
        <p:spPr>
          <a:xfrm>
            <a:off x="1495440" y="1420920"/>
            <a:ext cx="9480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李萍萍   开  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8T07:26:00Z</dcterms:created>
  <dc:creator>Administrator</dc:creator>
  <dc:description/>
  <dc:language>en-US</dc:language>
  <cp:lastModifiedBy>_</cp:lastModifiedBy>
  <dcterms:modified xsi:type="dcterms:W3CDTF">2017-08-21T03:41:0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